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4D07-DF92-40B1-9A41-812D289E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9B21-DD0A-4154-B643-D0C79C13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6CF9-753E-468B-9B7B-1FE38109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362-3732-4337-9BD2-A8D8933A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E719-4602-40BD-816C-C6C83005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F6C9-E30E-497C-99DE-39E67BD4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61F0-A40B-4A5E-90AA-535A4CCB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16D8-ACCA-4255-B84C-9C18C3FE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0DA8-3901-4882-8780-6F306551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DF4B-C377-4E08-815D-99A31265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12A6-8284-40EE-85AA-58FCAC03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41F-3474-4D30-AE4F-48218A93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B730-3AE7-4AD8-BF63-6C699945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7C40-D2C7-4DAF-8532-D0B93568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4381-BC03-4135-BE44-6EC7F55F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5612-D8B1-4BDB-8ABC-DDEDF1B2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327F-C548-4076-A87E-5D17FA39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DCDFB-273D-43C5-A35B-CFFF9C96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E3E72-2391-43D6-878C-F7C4A865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D6A61-E43F-4B45-B9BC-2D78F50E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467DE-708D-4D6F-AA76-54F8759F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DB28B-8FFC-4FC5-887E-5A204BDB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C25-0368-4D15-A4BC-51FD23D6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5400D-F70D-4DF1-A915-488AC044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EC6D8-B205-450C-A92C-7C932C1B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DBF03-1D72-4D1F-8DC0-720DCE6F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B1A2E-C0C4-4C81-A3F0-070D7BEB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2A42B-D4C7-407C-825A-35A205E7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2A388-6121-4590-85EE-15459BC9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FE76B-8387-4FE5-975C-59A3B81F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80E9A-5343-4D01-AD44-4C386157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3A14F-1C8A-46EB-B28B-D797BB93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13A23-EDE0-47D9-9DA5-378934FB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E46-47C4-4710-9134-9E46BAAA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8CDCA-1B0A-497D-B003-BBD2FA24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C4BC8-E28D-4F5E-9563-C0F6A0F2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59D9B-8666-4FB7-9076-999C1BD5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5B9D0-32C1-4A46-B4AA-C5EEEB87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8AB43-C093-4CEF-BF50-291CE97C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DFF4B-802E-467D-B938-7058DE7F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50DD2-1B5B-4650-BECD-8E94DB17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4DA21-8336-48B0-9E77-6EFC4D08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78572-7227-44BE-8952-3653E5FD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92FA-79D7-45E4-BA75-E8ADF200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367-6FE3-48F1-9302-CF8F6D54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3E8D-8D81-4415-BD0C-9BF46948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118-2842-406D-BD8E-CDE4BC08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FC1C-7993-4A7C-B54F-BE342B66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E767-FD9E-44B4-8ECE-3F426AB064A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7014-A811-4991-96CA-BE1AD2C0D10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AD48-97DB-4064-BDCF-3F5044976D5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D534-942B-4D5B-85D3-2C60004A8E9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sportal.ru/nachalnaya-shkola/vospitatelnaya-rabota/prezentatsiya-beseda-o-tolerantnosti-dlya-uchashchikhsya-2-k" TargetMode="External"/><Relationship Id="rId2" Type="http://schemas.openxmlformats.org/officeDocument/2006/relationships/hyperlink" Target="http://images.yandex.ru/yandsearch?text=&#1082;&#1072;&#1088;&#1090;&#1080;&#1085;&#1082;&#1080;%20&#1076;&#1088;&#1091;&#1078;&#1073;&#1072;&amp;stype=image&amp;lr=47&amp;noreask=1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ahoma"/>
              </a:rPr>
              <a:t>Классный час «Поговорим о толерантности»</a:t>
            </a: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2916360" y="5084640"/>
            <a:ext cx="59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Автор: Учитель начальных классов МБОУ СОШ № 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г. Нижнего Новг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Кулькова Светлана Андр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002 Улыбка.mp3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1110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"/>
          <p:cNvPicPr/>
          <p:nvPr/>
        </p:nvPicPr>
        <p:blipFill>
          <a:blip r:embed="rId1"/>
          <a:stretch/>
        </p:blipFill>
        <p:spPr>
          <a:xfrm>
            <a:off x="971640" y="0"/>
            <a:ext cx="711684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5753160" cy="38289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"/>
          <p:cNvSpPr/>
          <p:nvPr/>
        </p:nvSpPr>
        <p:spPr>
          <a:xfrm>
            <a:off x="468360" y="4437000"/>
            <a:ext cx="79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Мы все разны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то-то слушает классическую музыку, а кто-то тяжелый рок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ому-то нравится играть в футбол, а кому-то читать книг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то-то любит смотреть кино, а кто-то рисует чудесные картин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о все мы особенные! И каждый из нас достоин уваже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475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Arial Black"/>
              </a:rPr>
              <a:t>Будь не таким, как другие, и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Arial Black"/>
              </a:rPr>
              <a:t>позволь другим быть другим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rebuchet MS"/>
              </a:rPr>
              <a:t>Хенрик Ягодзински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Рисунок 1" descr=""/>
          <p:cNvPicPr/>
          <p:nvPr/>
        </p:nvPicPr>
        <p:blipFill>
          <a:blip r:embed="rId1"/>
          <a:stretch/>
        </p:blipFill>
        <p:spPr>
          <a:xfrm>
            <a:off x="1692360" y="2271600"/>
            <a:ext cx="5832360" cy="4375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31760" y="115920"/>
            <a:ext cx="8815320" cy="15843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" descr=""/>
          <p:cNvPicPr/>
          <p:nvPr/>
        </p:nvPicPr>
        <p:blipFill>
          <a:blip r:embed="rId2"/>
          <a:stretch/>
        </p:blipFill>
        <p:spPr>
          <a:xfrm>
            <a:off x="366840" y="2276640"/>
            <a:ext cx="4589280" cy="37447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2" descr=""/>
          <p:cNvPicPr/>
          <p:nvPr/>
        </p:nvPicPr>
        <p:blipFill>
          <a:blip r:embed="rId3"/>
          <a:stretch/>
        </p:blipFill>
        <p:spPr>
          <a:xfrm>
            <a:off x="5292720" y="1484280"/>
            <a:ext cx="3294000" cy="4942080"/>
          </a:xfrm>
          <a:prstGeom prst="rect">
            <a:avLst/>
          </a:prstGeom>
          <a:ln w="0">
            <a:noFill/>
          </a:ln>
        </p:spPr>
      </p:pic>
      <p:pic>
        <p:nvPicPr>
          <p:cNvPr id="235" name="123 Дорогою добра.mp3" descr=""/>
          <p:cNvPicPr/>
          <p:nvPr/>
        </p:nvPicPr>
        <p:blipFill>
          <a:blip r:embed="rId4"/>
          <a:stretch/>
        </p:blipFill>
        <p:spPr>
          <a:xfrm>
            <a:off x="61920" y="250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28538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3" descr=""/>
          <p:cNvPicPr/>
          <p:nvPr/>
        </p:nvPicPr>
        <p:blipFill>
          <a:blip r:embed="rId1"/>
          <a:stretch/>
        </p:blipFill>
        <p:spPr>
          <a:xfrm>
            <a:off x="189000" y="42840"/>
            <a:ext cx="8839080" cy="16146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8" descr=""/>
          <p:cNvPicPr/>
          <p:nvPr/>
        </p:nvPicPr>
        <p:blipFill>
          <a:blip r:embed="rId2"/>
          <a:stretch/>
        </p:blipFill>
        <p:spPr>
          <a:xfrm>
            <a:off x="90360" y="1184400"/>
            <a:ext cx="4716720" cy="35398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1" descr=""/>
          <p:cNvPicPr/>
          <p:nvPr/>
        </p:nvPicPr>
        <p:blipFill>
          <a:blip r:embed="rId3"/>
          <a:stretch/>
        </p:blipFill>
        <p:spPr>
          <a:xfrm>
            <a:off x="3995640" y="3429000"/>
            <a:ext cx="5060880" cy="3375000"/>
          </a:xfrm>
          <a:prstGeom prst="rect">
            <a:avLst/>
          </a:prstGeom>
          <a:ln w="0">
            <a:noFill/>
          </a:ln>
        </p:spPr>
      </p:pic>
      <p:pic>
        <p:nvPicPr>
          <p:cNvPr id="239" name="045 Если добрый ты.mp3" descr=""/>
          <p:cNvPicPr/>
          <p:nvPr/>
        </p:nvPicPr>
        <p:blipFill>
          <a:blip r:embed="rId4"/>
          <a:stretch/>
        </p:blipFill>
        <p:spPr>
          <a:xfrm>
            <a:off x="90360" y="5745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95363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Gadkiy_utenok_[tfile.ru].avi" descr=""/>
          <p:cNvPicPr/>
          <p:nvPr/>
        </p:nvPicPr>
        <p:blipFill>
          <a:blip r:embed="rId1"/>
          <a:stretch/>
        </p:blipFill>
        <p:spPr>
          <a:xfrm>
            <a:off x="-25560" y="0"/>
            <a:ext cx="96822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Trebuchet MS"/>
              </a:rPr>
              <a:t>Ребята, относитесь друг к другу терпимее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rebuchet MS"/>
              </a:rPr>
              <a:t>Будете толерантны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Рисунок 1" descr=""/>
          <p:cNvPicPr/>
          <p:nvPr/>
        </p:nvPicPr>
        <p:blipFill>
          <a:blip r:embed="rId1"/>
          <a:stretch/>
        </p:blipFill>
        <p:spPr>
          <a:xfrm>
            <a:off x="1763640" y="3071880"/>
            <a:ext cx="5400720" cy="3595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50920" y="117360"/>
            <a:ext cx="8713800" cy="62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оцессе создания презентации были использован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фимова Галина Николаевна. Презентация к классному часу по толеран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00"/>
                </a:solidFill>
                <a:uFillTx/>
                <a:latin typeface="Arial"/>
                <a:hlinkClick r:id="rId1"/>
              </a:rPr>
              <a:t>http://nsportal.ru/nachalnaya-shkola/vospitatelnaya-rabota/prezentatsiya-beseda-o-tolerantnosti-dlya-uchashchikhsya-2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ртинк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00"/>
                </a:solidFill>
                <a:uFillTx/>
                <a:latin typeface="Arial"/>
                <a:hlinkClick r:id="rId2"/>
              </a:rPr>
              <a:t>http://images.yandex.ru/yandsearch?text=%D0%BA%D0%B0%D1%80%D1%82%D0%B8%D0%BD%D0%BA%D0%B8%20%D0%B4%D1%80%D1%83%D0%B6%D0%B1%D0%B0&amp;stype=image&amp;lr=47&amp;noreas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/yandsearch?text=%D0%BA%D0%B0%D1%80%D1%82%D0%B8%D0%BD%D0%BA%D0%B8%20%D0%B1%D0%B5%D0%BB%D0%B0%D1%8F%20%D0%B2%D0%BE%D1%80%D0%BE%D0%BD%D0%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/yandsearch?text=%D0%BA%D0%B0%D1%80%D1%82%D0%B8%D0%BD%D0%BA%D0%B8%20%D1%80%D0%B0%D0%B7%D0%BD%D1%8B%D0%B5%20%D0%BB%D1%8E%D0%B4%D0%B8%20%D0%B2%D0%BC%D0%B5%D1%81%D1%82%D0%B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/yandsearch?text=%D0%BA%D0%B0%D1%80%D1%82%D0%B8%D0%BD%D0%BA%D0%B8%20%D0%BD%D0%B0%D1%80%D0%BE%D0%B4%D1%8B%20%D1%80%D0%BE%D1%81%D1%81%D0%B8%D0%B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324000" y="260280"/>
            <a:ext cx="8820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хаил Каменецкий. М/ф «Ежик должен быть колючим?» Союзмультфильм, 199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  Владимир Дегтярев. М/ф «Гадкий утенок». Союзмультфильм, 1956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  Минков Н., Энтин Ю. Песня «Дорогою добр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  Пляцковский М., Савельев Б. Песня «Если добрый ты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   Пляцковский М., Шаинский В. Песня «Улыб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50560" y="765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 Black"/>
              </a:rPr>
              <a:t>16 ноября – Международный день толерантности.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 Black"/>
              </a:rPr>
              <a:t>Толерантность – это уважение, принятие и понимание многообразия мира.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6836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Arial Black"/>
              </a:rPr>
              <a:t>Толерантность – это способность признавать мнение людей, которые думают не так, как мы.  Мы допускаем, что кто-то может думать иначе, или действовать иначе, нежели ты сам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169560" algn="ctr"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rebuchet MS"/>
              </a:rPr>
              <a:t>Толерантность</a:t>
            </a:r>
            <a:r>
              <a:rPr b="1" lang="ru-RU" sz="4400" spc="-1" strike="noStrike">
                <a:solidFill>
                  <a:srgbClr val="ff3300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rebuchet MS"/>
              </a:rPr>
              <a:t>– </a:t>
            </a:r>
            <a:r>
              <a:rPr b="1" lang="ru-RU" sz="4400" spc="-1" strike="noStrike">
                <a:solidFill>
                  <a:srgbClr val="ff3300"/>
                </a:solidFill>
                <a:latin typeface="Trebuchet MS"/>
              </a:rPr>
              <a:t>это благосклонность и уважение к  другому.</a:t>
            </a:r>
            <a:r>
              <a:rPr b="0" lang="ru-RU" sz="2200" spc="-1" strike="noStrike">
                <a:solidFill>
                  <a:srgbClr val="ff33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Ezhik_dolzhen_byt_kolyu4im_1990.avi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09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Объект 3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235400" cy="54738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4932360" y="1916280"/>
            <a:ext cx="396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  <a:ea typeface="Aharoni"/>
              </a:rPr>
              <a:t>Белая ворона – это человек, который сильно выделяется в коллективе (толп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12560" y="34092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00000"/>
                </a:solidFill>
                <a:latin typeface="Arial Black"/>
              </a:rPr>
              <a:t>Мы разные, но мы - вместе!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2255760" y="2108160"/>
            <a:ext cx="4619880" cy="4594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"/>
          <p:cNvPicPr/>
          <p:nvPr/>
        </p:nvPicPr>
        <p:blipFill>
          <a:blip r:embed="rId1"/>
          <a:stretch/>
        </p:blipFill>
        <p:spPr>
          <a:xfrm>
            <a:off x="0" y="-4680"/>
            <a:ext cx="9137520" cy="6862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2" descr=""/>
          <p:cNvPicPr/>
          <p:nvPr/>
        </p:nvPicPr>
        <p:blipFill>
          <a:blip r:embed="rId1"/>
          <a:stretch/>
        </p:blipFill>
        <p:spPr>
          <a:xfrm>
            <a:off x="1187280" y="-4680"/>
            <a:ext cx="7002720" cy="6862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6:59:20Z</dcterms:created>
  <dc:creator>EGN</dc:creator>
  <dc:description/>
  <dc:language>en-US</dc:language>
  <cp:lastModifiedBy>нн</cp:lastModifiedBy>
  <dcterms:modified xsi:type="dcterms:W3CDTF">2012-11-30T17:28:46Z</dcterms:modified>
  <cp:revision>23</cp:revision>
  <dc:subject/>
  <dc:title>Беседа о толерантности для учащихся 2 класса.</dc:title>
</cp:coreProperties>
</file>